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792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0DC9-8C26-461B-8287-CF5C475634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 RETEN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Les grands principes qui gouvernent la gestion de l ’eau en France (gestion par bassin versant, gestion équilibrée de la ressource, gestion concertée) ne sont pas remis en cause mais sont confortés par la dire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l’innovation majeure de la directive consiste à fixer des objectifs de résultats pour tous les milieux aquatiques. Partant, elle en tire toutes les conséquences comm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la nécessité d’intégrer politiques de l’eau et politiques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ctorielles (aménagement du territoi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la nécessité de prendre en compte les aspects socio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économ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 l’exigence de comparabilité entre les états memb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 RETENIR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'exigence de comparabilité entre les démarches menées par les différents états membres a rendu nécessaire la mise au point de méthodes communes sur différents suj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années 2001 et 2002 ont été largement consacrées à la définition de ces méthodes communes au niveau européén et national en liaison avec les bassins qui ont travaillés à une  première déclinaison opérationnelle de ces méthode (ex de la première carthographie des masses d'eaux naturell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e travail préparatoire nous permet aujourd'hui d'apporter des éléments techniques qui pourront servir de base aux travaux à engager avec les acteurs locaux sur les véritables enjeux de la directiv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B577-3B6C-4860-AD1F-86DE2DB7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23E5-7E58-4265-ACE3-05C3F6A7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924D-46E2-4849-8D46-DE9E651A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5C8-E816-4AE8-9670-CDA7C85A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14A2-F157-4506-979C-162FCCCA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AC2-BE53-4366-8748-6E7CA69D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65A2-539F-45F3-AD4E-681A98B8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7B8-156A-4E77-9E6A-1C99687E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85E-67B2-4078-AE85-1CDBEED2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9CC5-08B7-4948-ADBD-12A98CED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B876-3F2E-4885-B6D6-4B2215DE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1C4-122E-4E60-BEC8-85D59C40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CB60-819F-4755-AE82-6AC75F6F7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65040" y="621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it de présentation de la DCE : avril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0" y="6164280"/>
          <a:ext cx="534960" cy="69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164280"/>
                    <a:ext cx="53496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3640" y="1563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6280" y="15638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61480" y="63644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637704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320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62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9144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Discussion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: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3640" y="24019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2240" y="26305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65240" y="20210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2706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5880" y="2124360"/>
            <a:ext cx="835668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directive cadre remet-elle en cause les fondement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re politique de l’eau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lles sont les principales innovations de la directive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i fait quoi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810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3640" y="1563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6280" y="15638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61480" y="63644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637120" y="637704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320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462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iscussion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: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La directive cadre remet-elle en ca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es fondements de notre politique de l’eau ?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3640" y="24019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2240" y="26305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65240" y="20210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79440" y="2706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9810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1440" y="2844360"/>
            <a:ext cx="3538440" cy="3275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275"/>
              </a:spcAft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Le principe de gestion par bassin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grands bassi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drograph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planification pa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sin (SDAGE, 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organismes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sin (comités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sin, agences de l’ea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19680" y="2245320"/>
            <a:ext cx="4952880" cy="38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que prévoit la dir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19680" y="2849760"/>
            <a:ext cx="4952880" cy="3263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grands bassins : les « distric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drographiques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« plans de gestion » et d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programmes de me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« autorités compétentes 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gées de la mise en œuvre de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1440" y="2245320"/>
            <a:ext cx="3538440" cy="38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2831400"/>
            <a:ext cx="3538440" cy="32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275"/>
              </a:spcAft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6600"/>
                </a:solidFill>
                <a:latin typeface="Arial"/>
              </a:rPr>
              <a:t>Principe de gestion équilibrée de la ressource (loi sur l’eau du 3/01/1992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249"/>
              </a:spcAft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éservation des écosystèmes aquatiques de façon à satisfaire durablement les différents usages de l’eau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3640" y="1563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6280" y="15638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61480" y="63644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29120" y="647388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320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2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iscussion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: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La directive cadre remet-elle en ca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es fondements de notre politique de l’eau ?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3640" y="24019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2240" y="26305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65240" y="20210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79440" y="2706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9810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19680" y="2245320"/>
            <a:ext cx="4952880" cy="38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que prévoit la dir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2916720"/>
            <a:ext cx="4952880" cy="3080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f de bon état des milieux aquatiques en 2015 sauf dérogations motivées eu égard à des contraintes techniques, économiques, sociales ou environne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égration des politiques d’aménagement du terri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1440" y="2245320"/>
            <a:ext cx="3538440" cy="38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5076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3640" y="1563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280" y="15638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61480" y="63644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37120" y="637704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320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iscussion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: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La directive cadre remet-elle en ca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es fondements de notre politique de l’eau ?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3640" y="24019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2240" y="26305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65240" y="20210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79440" y="2706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1440" y="284796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297880"/>
            <a:ext cx="3843360" cy="388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275"/>
              </a:spcAft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6600"/>
                </a:solidFill>
                <a:latin typeface="Arial"/>
              </a:rPr>
              <a:t>Gestion concertée et participation des acteurs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249"/>
              </a:spcAft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définition de la politique de l’eau en France repose sur l’association des acteurs concernés au niveau national (comité national de l ’eau), de bassin (comités de bassin), ou local (commission locale de l’eau, comités de rivières, etc.)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6880" y="1789560"/>
            <a:ext cx="4495680" cy="38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que prévoit la dir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2297880"/>
            <a:ext cx="4495680" cy="390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acteurs locaux participeront activement aux travaux de la directive (état des lieux, définition des objectifs locaux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place des acteurs est confirmée et élargie à la participation du (grand)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1440" y="1800720"/>
            <a:ext cx="3843360" cy="38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380880" y="1411200"/>
            <a:ext cx="10134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3640" y="1563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6280" y="15638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61480" y="63644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95720" y="649116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320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62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iscussion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: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Quelles sont les principales innov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e la directive ?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3640" y="24019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2240" y="26305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65240" y="20210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79440" y="2706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9810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289728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6280" y="2008800"/>
            <a:ext cx="7848360" cy="39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e obligation de résultats pour tous les milie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renforcement de l’approche économ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intégration des politiques d’aménagement d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rri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onstruction dans le temps d’un processus 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vail : échéances 2004, 2006, 2009, 2015, 2021,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3640" y="1563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6280" y="15638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61480" y="63644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36040" y="649116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320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62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iscussion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: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Quelles sont les principales innov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e la directive ?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3640" y="24019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22240" y="26305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65240" y="20210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79440" y="2706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9810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289728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6280" y="2125080"/>
            <a:ext cx="7848360" cy="41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789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d’où des méthodes communes pour 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apprécier l’état des milieux et donc l’atteinte ou non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des objectifs (notion « d’intercalibration » des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systèmes d’évaluation de la qualité des milieu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la prise en compte des aspects économ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la mise en œuvre de « l’approche combinée »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pressions </a:t>
            </a:r>
            <a:r>
              <a:rPr b="1" lang="fr-F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impa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la délimitation des districts hydrograph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le découpage des masses d’ea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440" y="1445760"/>
            <a:ext cx="79088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UNE EXIGENCE DE COMPARABILITE ET DE COH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ENTRE LES ETATS MEMBRES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3640" y="1563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280" y="15638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61480" y="63644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637120" y="641664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320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62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533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iscussion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: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Directive cadre sur l’eau, qui fait quoi ?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3640" y="24019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2240" y="26305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65240" y="20210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79440" y="2706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9810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289728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277640"/>
            <a:ext cx="8339040" cy="45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789"/>
              </a:spcAft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rôle du MEDD 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66ff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éparer les textes de transposition de la directiv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 droit frança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66ff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rer la coordination générale des travaux a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iveau national (cohérence des démarches d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fférents bassins entre elles et vis à vis des autr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états membr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rôle du Comité de Bassin : préparer le plan de ges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rôle du préfet coordonnateur de bassin 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66ff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rouver le plan de 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66ff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éfinir et approuver le programme de mes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39920" y="6037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46280" y="5602320"/>
            <a:ext cx="7498800" cy="644400"/>
            <a:chOff x="746280" y="5602320"/>
            <a:chExt cx="7498800" cy="644400"/>
          </a:xfrm>
        </p:grpSpPr>
        <p:sp>
          <p:nvSpPr>
            <p:cNvPr id="194" name=""/>
            <p:cNvSpPr/>
            <p:nvPr/>
          </p:nvSpPr>
          <p:spPr>
            <a:xfrm>
              <a:off x="980280" y="5640840"/>
              <a:ext cx="72648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 marL="457200" algn="ctr">
                <a:lnSpc>
                  <a:spcPct val="70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…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avec la participation active des acteurs locau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6280" y="5602320"/>
              <a:ext cx="781200" cy="594720"/>
            </a:xfrm>
            <a:custGeom>
              <a:avLst/>
              <a:gdLst>
                <a:gd name="textAreaLeft" fmla="*/ 104400 w 781200"/>
                <a:gd name="textAreaRight" fmla="*/ 676800 w 781200"/>
                <a:gd name="textAreaTop" fmla="*/ 104040 h 594720"/>
                <a:gd name="textAreaBottom" fmla="*/ 431280 h 59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6:00:58Z</dcterms:created>
  <dc:creator>CORON</dc:creator>
  <dc:description/>
  <dc:language>en-US</dc:language>
  <cp:lastModifiedBy>CORON</cp:lastModifiedBy>
  <cp:lastPrinted>2003-04-25T08:32:57Z</cp:lastPrinted>
  <dcterms:modified xsi:type="dcterms:W3CDTF">2003-04-25T08:57:22Z</dcterms:modified>
  <cp:revision>15</cp:revision>
  <dc:subject/>
  <dc:title>Aucun titre de diapositive</dc:title>
</cp:coreProperties>
</file>