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895320" y="742680"/>
            <a:ext cx="4957920" cy="37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2E1D-5FA7-4C66-9826-16B935015A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Avec la directive cadre, la prise en compte des considérations économiques sera plus développé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Cette prise en compte interviendra sous différentes facettes et à différentes étapes d'élaboration de la direc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identification des enjeux économiques liés à l'eau dans l'état des lieux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analyse des "scénarios d'évolution" vis à vis de l'objectif de résultat 2015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notion de "coût disproportionné" pour justifier les dérogations dans le plan de g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analyse du rapport coût-efficacité des mesures à mettre en oeuvre au titre du programme de me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gt; récupération des coû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es méthodologies communes d'appréciation sont en cours de définition au niveau européen pour garantir la cohérence des approches utilisées par les différents états memb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7920" cy="37177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 RETENIR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des considérations économiques permettront de justifier des dérogations à l'objectif de bon état dans le plan de gestion 2009 : notions de coûts disproportionnés, de masse d'eau fortement modifiées et de masses d'eau artificiel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- remarque : la prise en compte des aspects socio-économiques par la DCE comprend plusieurs volets (au delà des aspects coûts disproportionnés)  dont on peut avoir une vision plus complète en consultant le module "pour approfondir" n°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413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6164280"/>
          <a:ext cx="534960" cy="690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6164280"/>
                    <a:ext cx="53496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"/>
          <p:cNvSpPr/>
          <p:nvPr/>
        </p:nvSpPr>
        <p:spPr>
          <a:xfrm>
            <a:off x="6613560" y="6213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072480" y="6507000"/>
            <a:ext cx="3074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Module «Pour approfondir » n° 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82296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l’identification des usages socio-économiques de 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f6600"/>
                </a:solidFill>
                <a:latin typeface="Arial"/>
              </a:rPr>
              <a:t>l’eau dans l’état des lie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u delà des prélèvements et rejets, que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nt les activités et services liés à l’eau 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actérisation en terme d ’enjeux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importance socio-économique de ce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tivités et services (par ex. : en terme d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iffre d’affaire, d’emploi, etc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5400" indent="-95400">
              <a:lnSpc>
                <a:spcPct val="9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3000" spc="-1" strike="noStrike">
                <a:solidFill>
                  <a:srgbClr val="00cc99"/>
                </a:solidFill>
                <a:latin typeface="ZapfDingbats BT"/>
                <a:ea typeface="ZapfDingbats BT"/>
              </a:rPr>
              <a:t>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nalyse à l’échelle de territoires socio-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conomiques perti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83808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3640" y="346860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38088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38360" y="704880"/>
            <a:ext cx="4067280" cy="54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1447920"/>
            <a:ext cx="8001000" cy="9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10000"/>
              </a:lnSpc>
              <a:tabLst>
                <a:tab algn="l" pos="0"/>
                <a:tab algn="l" pos="476280"/>
                <a:tab algn="l" pos="762120"/>
                <a:tab algn="l" pos="857160"/>
                <a:tab algn="l" pos="1333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6600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’analyse des «scénarios d’évolution » vis à vis de l’objectif 201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990720"/>
            <a:ext cx="786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93640" y="346860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46280" y="31640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98560" y="33926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819520"/>
            <a:ext cx="4114800" cy="79704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Arial"/>
              </a:rPr>
              <a:t>application des directives européennes sur l ’eau (ERU, nitrate, et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724280" y="2819520"/>
            <a:ext cx="4114800" cy="562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spcAft>
                <a:spcPts val="17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spectives d’aménagement du territoi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19920" y="3820320"/>
            <a:ext cx="523080" cy="436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5486400" y="3885480"/>
            <a:ext cx="685080" cy="382680"/>
          </a:xfrm>
          <a:prstGeom prst="line">
            <a:avLst/>
          </a:prstGeom>
          <a:ln w="572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4495680"/>
            <a:ext cx="8305920" cy="5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ère évaluation, dans l’état des lieux, des masses d’eau qui risquent de ne pas atteindre l’objectif « bon état 2015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85800" y="5562720"/>
            <a:ext cx="8077320" cy="562680"/>
            <a:chOff x="685800" y="5562720"/>
            <a:chExt cx="8077320" cy="562680"/>
          </a:xfrm>
        </p:grpSpPr>
        <p:sp>
          <p:nvSpPr>
            <p:cNvPr id="76" name=""/>
            <p:cNvSpPr/>
            <p:nvPr/>
          </p:nvSpPr>
          <p:spPr>
            <a:xfrm>
              <a:off x="685800" y="5562720"/>
              <a:ext cx="609480" cy="457200"/>
            </a:xfrm>
            <a:custGeom>
              <a:avLst/>
              <a:gdLst>
                <a:gd name="textAreaLeft" fmla="*/ 81360 w 609480"/>
                <a:gd name="textAreaRight" fmla="*/ 528120 w 60948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560" stAng="-5400000" swAng="-5400000"/>
                  <a:lnTo>
                    <a:pt x="0" y="11880"/>
                  </a:lnTo>
                  <a:arcTo wR="21600" hR="7560" stAng="10800000" swAng="-2682637"/>
                  <a:lnTo>
                    <a:pt x="14400" y="21168"/>
                  </a:lnTo>
                  <a:lnTo>
                    <a:pt x="21600" y="17280"/>
                  </a:lnTo>
                  <a:lnTo>
                    <a:pt x="14400" y="12528"/>
                  </a:lnTo>
                  <a:lnTo>
                    <a:pt x="14400" y="14688"/>
                  </a:lnTo>
                  <a:arcTo wR="21600" hR="7560" stAng="8117363" swAng="2325203"/>
                  <a:lnTo>
                    <a:pt x="900" y="9720"/>
                  </a:lnTo>
                  <a:arcTo wR="21600" hR="7560" stAng="-10442565" swAng="5042565"/>
                  <a:close/>
                </a:path>
                <a:path fill="darkenLess" w="21600" h="21600">
                  <a:moveTo>
                    <a:pt x="21600" y="0"/>
                  </a:moveTo>
                  <a:arcTo wR="21600" hR="7560" stAng="-5400000" swAng="-5400000"/>
                  <a:lnTo>
                    <a:pt x="0" y="7560"/>
                  </a:lnTo>
                  <a:arcTo wR="21600" hR="7560" stAng="10800000" swAng="-357435"/>
                  <a:lnTo>
                    <a:pt x="900" y="9720"/>
                  </a:lnTo>
                  <a:arcTo wR="21600" hR="7560" stAng="-10442565" swAng="5042565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76520" y="5562720"/>
              <a:ext cx="7086600" cy="56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000000"/>
                  </a:solidFill>
                  <a:latin typeface="Arial"/>
                </a:rPr>
                <a:t>Au délà de l’état des lieux, un objectif : intégrer politiques sectorielles et politique de l’eau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973080" y="2302920"/>
            <a:ext cx="74120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66"/>
                </a:solidFill>
                <a:latin typeface="Arial"/>
              </a:rPr>
              <a:t>La notion de «coûts disproportionnés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5760" y="3393360"/>
            <a:ext cx="3747960" cy="123300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pprécier la faisabilité économique des mesures à mettre en œuvre pour atteindre les objectif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740120" y="3488760"/>
            <a:ext cx="3065760" cy="1048680"/>
          </a:xfrm>
          <a:prstGeom prst="rect">
            <a:avLst/>
          </a:prstGeom>
          <a:solidFill>
            <a:srgbClr val="ffffcc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ettre en regard coût de la mesure  / bénéfice atten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120" y="5117760"/>
            <a:ext cx="7735680" cy="6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76280" indent="-185760">
              <a:lnSpc>
                <a:spcPct val="80000"/>
              </a:lnSpc>
              <a:spcBef>
                <a:spcPts val="17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 un élément pour alimenter le débat public : ne supprimera pas la part de la décision politiq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2692440" y="2795760"/>
            <a:ext cx="350640" cy="4554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59360" y="2836800"/>
            <a:ext cx="371520" cy="351000"/>
          </a:xfrm>
          <a:prstGeom prst="line">
            <a:avLst/>
          </a:prstGeom>
          <a:ln w="572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14480" y="390240"/>
            <a:ext cx="741204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La prise en compte de considérations économiqu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35000" y="1387800"/>
            <a:ext cx="741204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…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permettra de justifier des dérogations à l ’objectif de « bon état 2015 »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cc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74880" y="498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0"/>
            <a:ext cx="7900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08040" y="193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84360" y="193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9960" y="270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752480"/>
            <a:ext cx="8001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nalyse du rapport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coût-efficacité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es mesures à prévoir dans le programme de mesures 2009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72960" indent="-37296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Wingdings"/>
                <a:ea typeface="Wingdings"/>
              </a:rPr>
              <a:t></a:t>
            </a: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6600"/>
                </a:solidFill>
                <a:latin typeface="Arial"/>
              </a:rPr>
              <a:t>la récupération des coût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nalysée par grands secteurs économiques 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énage/industriels/agrico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ndre compte de la situation actuelle dans l’état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 lieu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789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66"/>
                </a:solidFill>
                <a:latin typeface="Wingdings"/>
                <a:ea typeface="Wingdings"/>
              </a:rPr>
              <a:t></a:t>
            </a:r>
            <a:r>
              <a:rPr b="1" lang="en-US" sz="22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oposer des améliorations éventuelles dans l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lan de ges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93640" y="1563840"/>
            <a:ext cx="18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6280" y="15638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61480" y="636444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320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46280" y="1411200"/>
            <a:ext cx="183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762120"/>
            <a:ext cx="78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66"/>
                </a:solidFill>
                <a:latin typeface="Arial"/>
              </a:rPr>
              <a:t>La prise en compte des aspects socio-économ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44360" y="5306040"/>
            <a:ext cx="1548000" cy="433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6280" y="5119920"/>
            <a:ext cx="77677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 dérogations sont possibles : la DCE n’impos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s le recouvrement complet des coûts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bligation de transparence sur le « qui paie quoi  ?»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our organiser le débat publ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4T09:30:46Z</dcterms:created>
  <dc:creator>CORON</dc:creator>
  <dc:description/>
  <dc:language>en-US</dc:language>
  <cp:lastModifiedBy>P2001162</cp:lastModifiedBy>
  <cp:lastPrinted>2003-04-25T12:27:05Z</cp:lastPrinted>
  <dcterms:modified xsi:type="dcterms:W3CDTF">2003-04-28T09:39:24Z</dcterms:modified>
  <cp:revision>16</cp:revision>
  <dc:subject/>
  <dc:title>Aucun titre de diapositive</dc:title>
</cp:coreProperties>
</file>